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3.gif" ContentType="image/gif"/>
  <Override PartName="/ppt/media/image5.jpeg" ContentType="image/jpeg"/>
  <Override PartName="/ppt/media/image9.png" ContentType="image/png"/>
  <Override PartName="/ppt/media/image6.wmf" ContentType="image/x-wmf"/>
  <Override PartName="/ppt/media/image11.png" ContentType="image/png"/>
  <Override PartName="/ppt/media/image13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0.png" ContentType="image/png"/>
  <Override PartName="/ppt/media/image31.png" ContentType="image/png"/>
  <Override PartName="/ppt/media/image29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7.png" ContentType="image/png"/>
  <Override PartName="/ppt/media/image1.jpeg" ContentType="image/jpeg"/>
  <Override PartName="/ppt/media/image15.png" ContentType="image/png"/>
  <Override PartName="/ppt/media/image16.png" ContentType="image/png"/>
  <Override PartName="/ppt/media/image32.jpeg" ContentType="image/jpeg"/>
  <Override PartName="/ppt/media/image20.wmf" ContentType="image/x-wmf"/>
  <Override PartName="/ppt/media/image17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media/image24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Lucida Sans Unicode"/>
              </a:rPr>
              <a:t>Click to move the slide</a:t>
            </a:r>
            <a:endParaRPr b="0" lang="en-US" sz="3200" spc="-1" strike="noStrike">
              <a:solidFill>
                <a:srgbClr val="008080"/>
              </a:solidFill>
              <a:latin typeface="Lucida Sans Unico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5056C63-F865-4B84-9A01-566E78453C8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IVE talks at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knows about CGL correlator and bench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F8745D8-AFEB-4BA0-BB4C-FAF10D98A23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033D10-44E0-4770-A412-86311CE132D2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19DCEEC-EE7C-46A0-B166-F1AC1F325ECD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14D1-4546-4F81-91F1-20EA9565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40" y="380448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45900-9851-42C1-AED9-DC2E8A24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2608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692D9-59FE-40C5-B804-8B130896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2848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3368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2364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2848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3368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7F4E-DFA4-448D-9699-E5FF7D95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0872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E4DD3-1DB2-4E5D-B357-1F2DAE60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2608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640" y="380448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2608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848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3368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364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848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3368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F02C8-4EAA-4835-BCA3-2DCF0A9E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57CE7-29E4-4E26-A510-C5FA6DF9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0D2AC-6341-4DB2-AF68-A289AB06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C0D72-B789-4D72-BFE6-20D35200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FB538-CC90-4319-8F57-17DCF138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EACBB-1630-4093-95A1-A7603A45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0872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98FAC-C97E-4638-A370-B7EFED63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CAE7E-B1C2-40D2-AD53-148E0B30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2608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AFA24-F29C-4F2A-A1A9-8EF06998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02201-1EAA-4B51-9956-11E4D92D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640" y="380448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CFB47-ABA2-4A30-BA9D-21C47122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2608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E89DF-050C-4B0E-8F27-F3626DB6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2848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3368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2364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2848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3368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0131A-DF85-4C8D-8234-63E942F7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4174-FD7E-46F9-852F-E46C2133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0872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2608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640" y="380448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2608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2848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33680" y="90792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2364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2848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133680" y="3804480"/>
            <a:ext cx="2766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83D9-EBB1-454A-B60C-2451636A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0872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48659-5002-4A52-8783-BDB1D784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0992E-361A-4D7E-B53B-702F3284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26080" y="380448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FEB7-208A-4475-A85F-7434CDC4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6080" y="907920"/>
            <a:ext cx="41925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3640" y="3804480"/>
            <a:ext cx="85914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C2C39-9D2D-4E63-B8A0-3E2ADB75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6280"/>
            <a:ext cx="250920" cy="6381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e7ee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0640"/>
            <a:ext cx="250920" cy="6237360"/>
          </a:xfrm>
          <a:prstGeom prst="rect">
            <a:avLst/>
          </a:prstGeom>
          <a:solidFill>
            <a:srgbClr val="79b5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Click to edit the title text format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60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47600" indent="-190440">
              <a:spcBef>
                <a:spcPts val="601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33440" indent="-95040">
              <a:spcBef>
                <a:spcPts val="601"/>
              </a:spcBef>
              <a:buClr>
                <a:srgbClr val="80566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0" y="5300640"/>
            <a:ext cx="1792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692280"/>
            <a:ext cx="0" cy="616572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0920" y="6669000"/>
            <a:ext cx="8893080" cy="189000"/>
          </a:xfrm>
          <a:prstGeom prst="rect">
            <a:avLst/>
          </a:prstGeom>
          <a:solidFill>
            <a:srgbClr val="5597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50920" y="620640"/>
            <a:ext cx="0" cy="6237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50920" y="6669000"/>
            <a:ext cx="889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8137440" y="6669000"/>
            <a:ext cx="100656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DDDF-8FC3-4914-B59E-46AD9661B0C5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dt" idx="3"/>
          </p:nvPr>
        </p:nvSpPr>
        <p:spPr>
          <a:xfrm>
            <a:off x="394920" y="6668640"/>
            <a:ext cx="36003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GiGaPort meeting SURF Utrecht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Lucida Sans Unicode"/>
              </a:rPr>
              <a:t>Click to edit the title text format</a:t>
            </a:r>
            <a:endParaRPr b="0" lang="en-US" sz="3200" spc="-1" strike="noStrike">
              <a:solidFill>
                <a:srgbClr val="00808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Lucida Sans Unicode"/>
              </a:rPr>
              <a:t>Click to edit the outline text format</a:t>
            </a:r>
            <a:endParaRPr b="1" i="1" lang="en-US" sz="2400" spc="-1" strike="noStrike">
              <a:solidFill>
                <a:srgbClr val="008080"/>
              </a:solidFill>
              <a:latin typeface="Lucida Sans Unicode"/>
            </a:endParaRPr>
          </a:p>
          <a:p>
            <a:pPr lvl="1" marL="4762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Second Outline Level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57160" algn="ctr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Third Outline Level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3" marL="1238400" algn="ctr">
              <a:spcBef>
                <a:spcPts val="400"/>
              </a:spcBef>
              <a:buClr>
                <a:srgbClr val="80566c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566c"/>
                </a:solidFill>
                <a:latin typeface="Lucida Sans Unicode"/>
              </a:rPr>
              <a:t>Fourth Outline Level</a:t>
            </a:r>
            <a:endParaRPr b="1" lang="en-US" sz="1600" spc="-1" strike="noStrike">
              <a:solidFill>
                <a:srgbClr val="80566c"/>
              </a:solidFill>
              <a:latin typeface="Lucida Sans Unicode"/>
            </a:endParaRPr>
          </a:p>
          <a:p>
            <a:pPr lvl="4" marL="1523880" algn="ctr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3880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3880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76280"/>
            <a:ext cx="250920" cy="6381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92280"/>
            <a:ext cx="250920" cy="6165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23640" y="764640"/>
            <a:ext cx="8591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60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47600" indent="-190440">
              <a:spcBef>
                <a:spcPts val="601"/>
              </a:spcBef>
              <a:buClr>
                <a:srgbClr val="6c2e6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33440" indent="-95040">
              <a:spcBef>
                <a:spcPts val="601"/>
              </a:spcBef>
              <a:buClr>
                <a:srgbClr val="3e623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4"/>
          </p:nvPr>
        </p:nvSpPr>
        <p:spPr>
          <a:xfrm>
            <a:off x="0" y="5300640"/>
            <a:ext cx="1792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692280"/>
            <a:ext cx="0" cy="6165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6669000"/>
            <a:ext cx="8893080" cy="189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476280"/>
            <a:ext cx="0" cy="6381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6669000"/>
            <a:ext cx="889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260280"/>
            <a:ext cx="1584360" cy="6476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548000" cy="533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4"/>
          <p:cNvSpPr>
            <a:spLocks noGrp="1"/>
          </p:cNvSpPr>
          <p:nvPr>
            <p:ph type="sldNum" idx="5"/>
          </p:nvPr>
        </p:nvSpPr>
        <p:spPr>
          <a:xfrm>
            <a:off x="8137440" y="6669000"/>
            <a:ext cx="100656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5231-A0BD-4D53-ADD8-08D2BF10D8CD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dt" idx="6"/>
          </p:nvPr>
        </p:nvSpPr>
        <p:spPr>
          <a:xfrm>
            <a:off x="356760" y="6668640"/>
            <a:ext cx="36003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NRI eSciences       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e62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65200" y="36684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Lucida Sans Unicode"/>
              </a:rPr>
              <a:t>Click to edit the title text format</a:t>
            </a:r>
            <a:endParaRPr b="0" lang="en-US" sz="3200" spc="-1" strike="noStrike">
              <a:solidFill>
                <a:srgbClr val="ff33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image" Target="../media/image32.jpeg"/><Relationship Id="rId7" Type="http://schemas.openxmlformats.org/officeDocument/2006/relationships/image" Target="../media/image32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5720" y="660240"/>
            <a:ext cx="8523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Lucida Sans Unicode"/>
              </a:rPr>
              <a:t>SCARIe FABRIC</a:t>
            </a:r>
            <a:br>
              <a:rPr sz="6600"/>
            </a:b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 pilot study of distributed correlation</a:t>
            </a:r>
            <a:endParaRPr b="0" lang="en-US" sz="3200" spc="-1" strike="noStrike">
              <a:solidFill>
                <a:srgbClr val="008080"/>
              </a:solidFill>
              <a:latin typeface="Lucida Sans Unicode"/>
            </a:endParaRPr>
          </a:p>
        </p:txBody>
      </p:sp>
      <p:sp>
        <p:nvSpPr>
          <p:cNvPr id="185" name=""/>
          <p:cNvSpPr/>
          <p:nvPr/>
        </p:nvSpPr>
        <p:spPr>
          <a:xfrm>
            <a:off x="2766240" y="3935520"/>
            <a:ext cx="371484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Huib Jan van Langeve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Ruud Oerle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Nico Kruith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Sergei Pogreben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Unicode"/>
              </a:rPr>
              <a:t>and many other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Basic idea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831960"/>
            <a:ext cx="8075520" cy="5672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626320" y="6172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59600" y="297000"/>
            <a:ext cx="4600080" cy="106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Use the Grid for 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CPU cycles on compute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The Net could be crossbar swit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74840" y="5354640"/>
            <a:ext cx="5009760" cy="106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orrelation will be a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Based on floating point arithm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Portable code, standar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79EB-2F70-4BC0-9392-0E8BB1301D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Workflow Management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85914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Must interact with normal VLBI schedules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Divide data, route to compute nodes, setup correlation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Dynamic resource allocation, keep up with incoming data!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</p:txBody>
      </p:sp>
      <p:sp>
        <p:nvSpPr>
          <p:cNvPr id="231" name=""/>
          <p:cNvSpPr/>
          <p:nvPr/>
        </p:nvSpPr>
        <p:spPr>
          <a:xfrm>
            <a:off x="837000" y="2288520"/>
            <a:ext cx="39348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Effort from Poznan, based on their Virtual L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55760" y="2254320"/>
            <a:ext cx="7559640" cy="460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rcRect l="4386" t="0" r="7276" b="0"/>
          <a:stretch/>
        </p:blipFill>
        <p:spPr>
          <a:xfrm>
            <a:off x="7916760" y="4375080"/>
            <a:ext cx="433440" cy="41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7B91C-CAC1-424C-B62D-E7DC807672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58"/>
                </a:solidFill>
                <a:latin typeface="Lucida Sans Unicode"/>
              </a:rPr>
              <a:t>Topology</a:t>
            </a:r>
            <a:endParaRPr b="0" lang="en-US" sz="28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918720"/>
            <a:ext cx="4219560" cy="55450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lice in time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-1890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Every node gets an interval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04960" indent="-1684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A “new correlator” for every time slice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04960" indent="-1684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Employ clusters computers at nodes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457200" indent="-1890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Minimizes total data transport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04960" indent="-1684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Bottleneck at compute node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04960" indent="-1684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Probably good connectivity at Grid nodes anyway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457200" indent="-1890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Scales perfectly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04960" indent="-1684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Easily estimated how many nodes are needed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04960" indent="-1684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Works with heterogeneous nodes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457200" indent="-1890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But leaves sorting to compute nodes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04960" indent="-1684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Memory access may limit effectiveness 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24080" y="907920"/>
            <a:ext cx="4219560" cy="55454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lice in baseline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39640" indent="-183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Assign a (or a range of) products to a certain node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28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E.g. two data streams meet in some place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539640" indent="-183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Transport Bottleneck at sources (telescopes)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28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Maybe curable with multicast transport mechanism which forks at network nodes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92080" indent="-1728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Some advantage when local nodes at telescopes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539640" indent="-183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Does not scale very simply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28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Simple schemes for </a:t>
            </a:r>
            <a:r>
              <a:rPr b="1" lang="en-US" sz="1600" spc="-1" strike="noStrike">
                <a:solidFill>
                  <a:srgbClr val="339933"/>
                </a:solidFill>
                <a:latin typeface="Lucida Sans Unicode"/>
                <a:ea typeface="Lucida Sans Unicode"/>
              </a:rPr>
              <a:t>½</a:t>
            </a: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N</a:t>
            </a:r>
            <a:r>
              <a:rPr b="1" lang="en-US" sz="1600" spc="-1" strike="noStrike" baseline="30000">
                <a:solidFill>
                  <a:srgbClr val="339933"/>
                </a:solidFill>
                <a:latin typeface="Lucida Sans Unicode"/>
              </a:rPr>
              <a:t>2 </a:t>
            </a: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nodes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92080" indent="-1728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Need to re-sort output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539640" indent="-183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But reduces the compute problem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28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Using the network as the cross-bar switch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92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2486-6FB7-4D4E-8A43-00953CCCB788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Work packages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Grid resource allocation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Grid workflow management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Tool to allocate correlator resources and schedule correlation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Data flow from telescopes to appropriate correlator resources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Expertise from the Poznan group in Virtual Laboratories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Will this application fit on Grid?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As it is very data intensive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And time-critical if not real-time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ftware correlation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correlator algorithm design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High precision correlation on standard computing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Scalable to cluster computers 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Portable for grid computers and interfaced to standard middleware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Interactive visualization and output definition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Collect &amp; merge data in EVN archive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Standard format and proprietary rights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1550-4F7E-4197-B159-CEC35E7DB0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Broadband software correlation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41" name=""/>
          <p:cNvSpPr/>
          <p:nvPr/>
        </p:nvSpPr>
        <p:spPr>
          <a:xfrm>
            <a:off x="2932200" y="2741760"/>
            <a:ext cx="53316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56240" y="2163600"/>
            <a:ext cx="182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data 16 MHz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k4 format on linux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15160" y="271764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x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4040" y="3160800"/>
            <a:ext cx="609480" cy="30456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90200" y="313524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05160" y="392256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 cor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32200" y="3911760"/>
            <a:ext cx="53316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4040" y="4351320"/>
            <a:ext cx="609480" cy="30492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50" idx="3"/>
            <a:endCxn id="241" idx="0"/>
          </p:cNvCxnSpPr>
          <p:nvPr/>
        </p:nvCxnSpPr>
        <p:spPr>
          <a:xfrm flipV="1" rot="10800000">
            <a:off x="3198240" y="2560320"/>
            <a:ext cx="1080" cy="181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1" idx="2"/>
            <a:endCxn id="244" idx="1"/>
          </p:cNvCxnSpPr>
          <p:nvPr/>
        </p:nvCxnSpPr>
        <p:spPr>
          <a:xfrm flipV="1" rot="10800000">
            <a:off x="3198240" y="2970000"/>
            <a:ext cx="10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2894040" y="2255760"/>
            <a:ext cx="609480" cy="30492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61360" y="437832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 correct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4" idx="3"/>
            <a:endCxn id="247" idx="0"/>
          </p:cNvCxnSpPr>
          <p:nvPr/>
        </p:nvCxnSpPr>
        <p:spPr>
          <a:xfrm flipV="1" rot="10800000">
            <a:off x="3198240" y="3465000"/>
            <a:ext cx="1080" cy="44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7" idx="2"/>
            <a:endCxn id="248" idx="1"/>
          </p:cNvCxnSpPr>
          <p:nvPr/>
        </p:nvCxnSpPr>
        <p:spPr>
          <a:xfrm flipV="1" rot="10800000">
            <a:off x="3198240" y="4140000"/>
            <a:ext cx="1080" cy="211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2708280" y="8524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82920" y="2741760"/>
            <a:ext cx="533520" cy="22860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45120" y="3160800"/>
            <a:ext cx="609480" cy="30456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82920" y="3911760"/>
            <a:ext cx="533520" cy="22860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45120" y="4351320"/>
            <a:ext cx="609480" cy="30492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3"/>
            <a:endCxn id="256" idx="0"/>
          </p:cNvCxnSpPr>
          <p:nvPr/>
        </p:nvCxnSpPr>
        <p:spPr>
          <a:xfrm flipV="1" rot="10800000">
            <a:off x="4548960" y="2560320"/>
            <a:ext cx="1080" cy="181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6" idx="2"/>
            <a:endCxn id="257" idx="1"/>
          </p:cNvCxnSpPr>
          <p:nvPr/>
        </p:nvCxnSpPr>
        <p:spPr>
          <a:xfrm flipV="1" rot="10800000">
            <a:off x="4548960" y="2970000"/>
            <a:ext cx="10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4245120" y="2255760"/>
            <a:ext cx="609480" cy="30492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57" idx="3"/>
            <a:endCxn id="258" idx="0"/>
          </p:cNvCxnSpPr>
          <p:nvPr/>
        </p:nvCxnSpPr>
        <p:spPr>
          <a:xfrm flipV="1" rot="10800000">
            <a:off x="4548960" y="3465000"/>
            <a:ext cx="1080" cy="44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8" idx="2"/>
            <a:endCxn id="259" idx="1"/>
          </p:cNvCxnSpPr>
          <p:nvPr/>
        </p:nvCxnSpPr>
        <p:spPr>
          <a:xfrm flipV="1" rot="10800000">
            <a:off x="4548960" y="4140000"/>
            <a:ext cx="1080" cy="211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4034520" y="8524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34120" y="2741760"/>
            <a:ext cx="53352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95960" y="3160800"/>
            <a:ext cx="609480" cy="304560"/>
          </a:xfrm>
          <a:prstGeom prst="flowChartMagneticDisk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34120" y="3911760"/>
            <a:ext cx="53352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95960" y="4351320"/>
            <a:ext cx="609480" cy="304920"/>
          </a:xfrm>
          <a:prstGeom prst="flowChartMagneticDisk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71" idx="3"/>
            <a:endCxn id="266" idx="0"/>
          </p:cNvCxnSpPr>
          <p:nvPr/>
        </p:nvCxnSpPr>
        <p:spPr>
          <a:xfrm flipV="1" rot="10800000">
            <a:off x="6500160" y="2560320"/>
            <a:ext cx="1080" cy="181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6" idx="2"/>
            <a:endCxn id="267" idx="1"/>
          </p:cNvCxnSpPr>
          <p:nvPr/>
        </p:nvCxnSpPr>
        <p:spPr>
          <a:xfrm flipV="1" rot="10800000">
            <a:off x="6500160" y="2970000"/>
            <a:ext cx="10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195960" y="2255760"/>
            <a:ext cx="609480" cy="304920"/>
          </a:xfrm>
          <a:prstGeom prst="flowChartMagneticDisk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67" idx="3"/>
            <a:endCxn id="268" idx="0"/>
          </p:cNvCxnSpPr>
          <p:nvPr/>
        </p:nvCxnSpPr>
        <p:spPr>
          <a:xfrm flipV="1" rot="10800000">
            <a:off x="6500160" y="3465000"/>
            <a:ext cx="1080" cy="44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8" idx="2"/>
            <a:endCxn id="269" idx="1"/>
          </p:cNvCxnSpPr>
          <p:nvPr/>
        </p:nvCxnSpPr>
        <p:spPr>
          <a:xfrm flipV="1" rot="10800000">
            <a:off x="6500160" y="4140000"/>
            <a:ext cx="1080" cy="211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5995800" y="85248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on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62440" y="5291280"/>
            <a:ext cx="381240" cy="380880"/>
          </a:xfrm>
          <a:prstGeom prst="flowChartSummingJunction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48" idx="3"/>
            <a:endCxn id="276" idx="0"/>
          </p:cNvCxnSpPr>
          <p:nvPr/>
        </p:nvCxnSpPr>
        <p:spPr>
          <a:xfrm flipH="1" rot="16200000">
            <a:off x="3758400" y="4096440"/>
            <a:ext cx="635760" cy="1754640"/>
          </a:xfrm>
          <a:prstGeom prst="curvedConnector5">
            <a:avLst>
              <a:gd name="adj1" fmla="val 49971"/>
              <a:gd name="adj2" fmla="val 49989"/>
              <a:gd name="adj3" fmla="val 49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59" idx="3"/>
            <a:endCxn id="276" idx="0"/>
          </p:cNvCxnSpPr>
          <p:nvPr/>
        </p:nvCxnSpPr>
        <p:spPr>
          <a:xfrm flipH="1" rot="16200000">
            <a:off x="4433760" y="4771800"/>
            <a:ext cx="635760" cy="403920"/>
          </a:xfrm>
          <a:prstGeom prst="curvedConnector5">
            <a:avLst>
              <a:gd name="adj1" fmla="val 49971"/>
              <a:gd name="adj2" fmla="val 49955"/>
              <a:gd name="adj3" fmla="val 49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69" idx="3"/>
            <a:endCxn id="276" idx="0"/>
          </p:cNvCxnSpPr>
          <p:nvPr/>
        </p:nvCxnSpPr>
        <p:spPr>
          <a:xfrm rot="5400000">
            <a:off x="5408640" y="4199760"/>
            <a:ext cx="635760" cy="1548720"/>
          </a:xfrm>
          <a:prstGeom prst="curvedConnector5">
            <a:avLst>
              <a:gd name="adj1" fmla="val 49971"/>
              <a:gd name="adj2" fmla="val 49988"/>
              <a:gd name="adj3" fmla="val 49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2841480" y="5337000"/>
            <a:ext cx="16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lation. SFX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62560" y="5729400"/>
            <a:ext cx="1967040" cy="4572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09840" y="3586320"/>
            <a:ext cx="446040" cy="16812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25720" y="3597120"/>
            <a:ext cx="446400" cy="14292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37400" y="3597120"/>
            <a:ext cx="471240" cy="142920"/>
          </a:xfrm>
          <a:prstGeom prst="flowChartMagneticDisk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2" idx="3"/>
            <a:endCxn id="247" idx="0"/>
          </p:cNvCxnSpPr>
          <p:nvPr/>
        </p:nvCxnSpPr>
        <p:spPr>
          <a:xfrm flipH="1" rot="16200000">
            <a:off x="2837520" y="3549960"/>
            <a:ext cx="158040" cy="565920"/>
          </a:xfrm>
          <a:prstGeom prst="curvedConnector5">
            <a:avLst>
              <a:gd name="adj1" fmla="val 49315"/>
              <a:gd name="adj2" fmla="val 49968"/>
              <a:gd name="adj3" fmla="val 49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83" idx="3"/>
            <a:endCxn id="258" idx="0"/>
          </p:cNvCxnSpPr>
          <p:nvPr/>
        </p:nvCxnSpPr>
        <p:spPr>
          <a:xfrm flipH="1" rot="16200000">
            <a:off x="4212720" y="3575520"/>
            <a:ext cx="172440" cy="5007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84" idx="3"/>
            <a:endCxn id="268" idx="0"/>
          </p:cNvCxnSpPr>
          <p:nvPr/>
        </p:nvCxnSpPr>
        <p:spPr>
          <a:xfrm flipH="1" rot="16200000">
            <a:off x="6201360" y="3611880"/>
            <a:ext cx="172440" cy="427680"/>
          </a:xfrm>
          <a:prstGeom prst="curvedConnector5">
            <a:avLst>
              <a:gd name="adj1" fmla="val 50000"/>
              <a:gd name="adj2" fmla="val 4995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384120" y="3549600"/>
            <a:ext cx="20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calculated,Delay 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92600" y="1306440"/>
            <a:ext cx="609480" cy="30492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32200" y="1800360"/>
            <a:ext cx="53316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46560" y="1305000"/>
            <a:ext cx="609480" cy="30456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84720" y="1798560"/>
            <a:ext cx="533520" cy="22860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94520" y="1339920"/>
            <a:ext cx="609480" cy="304560"/>
          </a:xfrm>
          <a:prstGeom prst="flowChartMagneticDisk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34120" y="1833480"/>
            <a:ext cx="53352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9" idx="3"/>
            <a:endCxn id="290" idx="0"/>
          </p:cNvCxnSpPr>
          <p:nvPr/>
        </p:nvCxnSpPr>
        <p:spPr>
          <a:xfrm flipH="1" rot="16200000">
            <a:off x="3102480" y="1704600"/>
            <a:ext cx="189720" cy="252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0" idx="2"/>
            <a:endCxn id="250" idx="1"/>
          </p:cNvCxnSpPr>
          <p:nvPr/>
        </p:nvCxnSpPr>
        <p:spPr>
          <a:xfrm flipV="1" rot="10800000">
            <a:off x="3198240" y="2028600"/>
            <a:ext cx="1080" cy="227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1" idx="3"/>
            <a:endCxn id="292" idx="0"/>
          </p:cNvCxnSpPr>
          <p:nvPr/>
        </p:nvCxnSpPr>
        <p:spPr>
          <a:xfrm flipV="1" rot="10800000">
            <a:off x="4550760" y="1609200"/>
            <a:ext cx="1080" cy="189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92" idx="2"/>
            <a:endCxn id="261" idx="1"/>
          </p:cNvCxnSpPr>
          <p:nvPr/>
        </p:nvCxnSpPr>
        <p:spPr>
          <a:xfrm rot="5400000">
            <a:off x="4435560" y="2140200"/>
            <a:ext cx="22932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3"/>
            <a:endCxn id="294" idx="0"/>
          </p:cNvCxnSpPr>
          <p:nvPr/>
        </p:nvCxnSpPr>
        <p:spPr>
          <a:xfrm flipH="1" rot="16200000">
            <a:off x="6404400" y="1737720"/>
            <a:ext cx="189720" cy="252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4" idx="2"/>
            <a:endCxn id="271" idx="1"/>
          </p:cNvCxnSpPr>
          <p:nvPr/>
        </p:nvCxnSpPr>
        <p:spPr>
          <a:xfrm flipV="1" rot="10800000">
            <a:off x="6500160" y="2061720"/>
            <a:ext cx="1080" cy="194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1100520" y="1758960"/>
            <a:ext cx="170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Mk5 to linux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18080" y="124452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w data BW=16 MHz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k4 format on Mk5 dis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77240" y="2571840"/>
            <a:ext cx="92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,TRM,C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77240" y="3800520"/>
            <a:ext cx="100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M,DMM,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931160" y="2571840"/>
            <a:ext cx="365040" cy="1428840"/>
          </a:xfrm>
          <a:custGeom>
            <a:avLst/>
            <a:gdLst>
              <a:gd name="textAreaLeft" fmla="*/ 0 w 365040"/>
              <a:gd name="textAreaRight" fmla="*/ 131760 w 365040"/>
              <a:gd name="textAreaTop" fmla="*/ 37080 h 1428840"/>
              <a:gd name="textAreaBottom" fmla="*/ 139176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44"/>
                </a:lnTo>
                <a:cubicBezTo>
                  <a:pt x="10800" y="10044"/>
                  <a:pt x="16200" y="10944"/>
                  <a:pt x="21600" y="10944"/>
                </a:cubicBezTo>
                <a:cubicBezTo>
                  <a:pt x="16200" y="10944"/>
                  <a:pt x="10800" y="11844"/>
                  <a:pt x="10800" y="127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01160" y="3162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86720" y="4572000"/>
            <a:ext cx="904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276" idx="4"/>
            <a:endCxn id="281" idx="1"/>
          </p:cNvCxnSpPr>
          <p:nvPr/>
        </p:nvCxnSpPr>
        <p:spPr>
          <a:xfrm flipH="1" rot="16200000">
            <a:off x="5014800" y="5609880"/>
            <a:ext cx="286560" cy="410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7372440" y="4048200"/>
            <a:ext cx="333360" cy="1590480"/>
          </a:xfrm>
          <a:custGeom>
            <a:avLst/>
            <a:gdLst>
              <a:gd name="textAreaLeft" fmla="*/ 0 w 333360"/>
              <a:gd name="textAreaRight" fmla="*/ 120240 w 333360"/>
              <a:gd name="textAreaTop" fmla="*/ 41400 h 1590480"/>
              <a:gd name="textAreaBottom" fmla="*/ 1549080 h 159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48440" y="868320"/>
            <a:ext cx="17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N Mk4 equival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304B7-A069-49E8-B0AA-4AC648661B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07800" y="436680"/>
            <a:ext cx="8836200" cy="62452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Better SNR than Mk4 hardware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4E9F-24C6-4BF9-AA3A-2CA767BA4C5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Software correlation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219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orking on benchmarking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92080" indent="-172800"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Single core processors so far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92080" indent="-172800"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Different CPU’s available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539640" indent="-183960"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Already quite efficient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2800"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More work on memory performance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92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marL="176040" indent="-1760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ust deploy on cluster computers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76040" indent="-1760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nd then on Grid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76040" indent="-1760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Organize the output to be used for astronomy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721400" y="1170000"/>
          <a:ext cx="391932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1400" y="1170000"/>
                    <a:ext cx="391932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4835520" y="3938760"/>
          <a:ext cx="3909960" cy="2644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35520" y="3938760"/>
                    <a:ext cx="3909960" cy="26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7BF57-E0C2-4C07-A2AB-589777A93CE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ide step: Data intensive processing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45432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5680" indent="-1756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Radio-astronomy can be extreme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75680" indent="-1756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User data sets can be large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75880" indent="-174240">
              <a:spcBef>
                <a:spcPts val="349"/>
              </a:spcBef>
              <a:buClr>
                <a:srgbClr val="6c2e6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2e63"/>
                </a:solidFill>
                <a:latin typeface="Lucida Sans Unicode"/>
              </a:rPr>
              <a:t>Few – 100 GB now</a:t>
            </a:r>
            <a:endParaRPr b="1" lang="en-US" sz="1400" spc="-1" strike="noStrike">
              <a:solidFill>
                <a:srgbClr val="6c2e63"/>
              </a:solidFill>
              <a:latin typeface="Lucida Sans Unicode"/>
            </a:endParaRPr>
          </a:p>
          <a:p>
            <a:pPr lvl="2" marL="875880" indent="-174240">
              <a:spcBef>
                <a:spcPts val="349"/>
              </a:spcBef>
              <a:buClr>
                <a:srgbClr val="6c2e6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2e63"/>
                </a:solidFill>
                <a:latin typeface="Lucida Sans Unicode"/>
              </a:rPr>
              <a:t>Larger: LOFAR, eVLBI, APERTIF, SKA</a:t>
            </a:r>
            <a:endParaRPr b="1" lang="en-US" sz="1400" spc="-1" strike="noStrike">
              <a:solidFill>
                <a:srgbClr val="6c2e63"/>
              </a:solidFill>
              <a:latin typeface="Lucida Sans Unicode"/>
            </a:endParaRPr>
          </a:p>
          <a:p>
            <a:pPr lvl="1" marL="525600" indent="-173880">
              <a:spcBef>
                <a:spcPts val="400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Lucida Sans Unicode"/>
              </a:rPr>
              <a:t>All data enter imaging</a:t>
            </a:r>
            <a:endParaRPr b="1" lang="en-US" sz="16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525600" indent="-173880">
              <a:spcBef>
                <a:spcPts val="400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Lucida Sans Unicode"/>
              </a:rPr>
              <a:t>Iterative calibration schemes</a:t>
            </a:r>
            <a:endParaRPr b="1" lang="en-US" sz="16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525600" indent="-173880">
              <a:spcBef>
                <a:spcPts val="400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Lucida Sans Unicode"/>
              </a:rPr>
              <a:t>Few operations per Byte</a:t>
            </a:r>
            <a:endParaRPr b="1" lang="en-US" sz="1600" spc="-1" strike="noStrike">
              <a:solidFill>
                <a:srgbClr val="336699"/>
              </a:solidFill>
              <a:latin typeface="Lucida Sans Unicode"/>
            </a:endParaRPr>
          </a:p>
          <a:p>
            <a:pPr marL="175680" indent="-1756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arallel computing: not obviously suited for messaging systems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5600" indent="-173880">
              <a:spcBef>
                <a:spcPts val="400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Lucida Sans Unicode"/>
              </a:rPr>
              <a:t>Task (data oriented) parallelization</a:t>
            </a:r>
            <a:endParaRPr b="1" lang="en-US" sz="16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525600" indent="-173880">
              <a:spcBef>
                <a:spcPts val="400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Lucida Sans Unicode"/>
              </a:rPr>
              <a:t>Processing traditionally done interactively on user platform</a:t>
            </a:r>
            <a:endParaRPr b="1" lang="en-US" sz="16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75880" indent="-174240">
              <a:spcBef>
                <a:spcPts val="349"/>
              </a:spcBef>
              <a:buClr>
                <a:srgbClr val="6c2e6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2e63"/>
                </a:solidFill>
                <a:latin typeface="Lucida Sans Unicode"/>
              </a:rPr>
              <a:t>More and more pipeline approaches</a:t>
            </a:r>
            <a:endParaRPr b="1" lang="en-US" sz="1400" spc="-1" strike="noStrike">
              <a:solidFill>
                <a:srgbClr val="6c2e63"/>
              </a:solidFill>
              <a:latin typeface="Lucida Sans Unicode"/>
            </a:endParaRPr>
          </a:p>
          <a:p>
            <a:pPr marL="175680" indent="-1756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ddressed in RadioNet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5600" indent="-173880">
              <a:spcBef>
                <a:spcPts val="400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Lucida Sans Unicode"/>
              </a:rPr>
              <a:t>Project ALBUS</a:t>
            </a:r>
            <a:endParaRPr b="1" lang="en-US" sz="16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75880" indent="-174240">
              <a:spcBef>
                <a:spcPts val="349"/>
              </a:spcBef>
              <a:buClr>
                <a:srgbClr val="6c2e6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2e63"/>
                </a:solidFill>
                <a:latin typeface="Lucida Sans Unicode"/>
              </a:rPr>
              <a:t>resulted in Python for AIPS</a:t>
            </a:r>
            <a:endParaRPr b="1" lang="en-US" sz="1400" spc="-1" strike="noStrike">
              <a:solidFill>
                <a:srgbClr val="6c2e63"/>
              </a:solidFill>
              <a:latin typeface="Lucida Sans Unicode"/>
            </a:endParaRPr>
          </a:p>
          <a:p>
            <a:pPr lvl="1" marL="525600" indent="-173880">
              <a:spcBef>
                <a:spcPts val="400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Lucida Sans Unicode"/>
              </a:rPr>
              <a:t>Looking for extension in FP7</a:t>
            </a:r>
            <a:endParaRPr b="1" lang="en-US" sz="16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75880" indent="-174240">
              <a:spcBef>
                <a:spcPts val="349"/>
              </a:spcBef>
              <a:buClr>
                <a:srgbClr val="6c2e6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2e63"/>
                </a:solidFill>
                <a:latin typeface="Lucida Sans Unicode"/>
              </a:rPr>
              <a:t>Interoperability with ALMA, LOFAR</a:t>
            </a:r>
            <a:endParaRPr b="1" lang="en-US" sz="1400" spc="-1" strike="noStrike">
              <a:solidFill>
                <a:srgbClr val="6c2e63"/>
              </a:solidFill>
              <a:latin typeface="Lucida Sans Unicode"/>
            </a:endParaRPr>
          </a:p>
          <a:p>
            <a:pPr lvl="2" marL="875880" indent="-174240">
              <a:spcBef>
                <a:spcPts val="349"/>
              </a:spcBef>
              <a:buClr>
                <a:srgbClr val="6c2e6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c2e63"/>
                </a:solidFill>
                <a:latin typeface="Lucida Sans Unicode"/>
              </a:rPr>
              <a:t>But for user domain</a:t>
            </a:r>
            <a:endParaRPr b="1" lang="en-US" sz="1400" spc="-1" strike="noStrike">
              <a:solidFill>
                <a:srgbClr val="6c2e63"/>
              </a:solidFill>
              <a:latin typeface="Lucida Sans Unicode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146560" y="382680"/>
            <a:ext cx="3862440" cy="3317400"/>
            <a:chOff x="5146560" y="382680"/>
            <a:chExt cx="3862440" cy="331740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6171480" y="573480"/>
              <a:ext cx="2837520" cy="29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5171400" y="388800"/>
              <a:ext cx="740880" cy="762480"/>
            </a:xfrm>
            <a:prstGeom prst="rect">
              <a:avLst/>
            </a:prstGeom>
            <a:ln w="9360">
              <a:solidFill>
                <a:srgbClr val="33cccc"/>
              </a:solidFill>
              <a:miter/>
            </a:ln>
          </p:spPr>
        </p:pic>
        <p:pic>
          <p:nvPicPr>
            <p:cNvPr id="325" name="" descr=""/>
            <p:cNvPicPr/>
            <p:nvPr/>
          </p:nvPicPr>
          <p:blipFill>
            <a:blip r:embed="rId3"/>
            <a:stretch/>
          </p:blipFill>
          <p:spPr>
            <a:xfrm>
              <a:off x="5178240" y="2933280"/>
              <a:ext cx="749160" cy="766800"/>
            </a:xfrm>
            <a:prstGeom prst="rect">
              <a:avLst/>
            </a:prstGeom>
            <a:ln w="9360">
              <a:solidFill>
                <a:srgbClr val="33cccc"/>
              </a:solidFill>
              <a:miter/>
            </a:ln>
          </p:spPr>
        </p:pic>
        <p:pic>
          <p:nvPicPr>
            <p:cNvPr id="326" name="" descr=""/>
            <p:cNvPicPr/>
            <p:nvPr/>
          </p:nvPicPr>
          <p:blipFill>
            <a:blip r:embed="rId4"/>
            <a:stretch/>
          </p:blipFill>
          <p:spPr>
            <a:xfrm>
              <a:off x="5146560" y="1642320"/>
              <a:ext cx="745200" cy="766800"/>
            </a:xfrm>
            <a:prstGeom prst="rect">
              <a:avLst/>
            </a:prstGeom>
            <a:ln w="9360">
              <a:solidFill>
                <a:srgbClr val="33cccc"/>
              </a:solidFill>
              <a:miter/>
            </a:ln>
          </p:spPr>
        </p:pic>
        <p:sp>
          <p:nvSpPr>
            <p:cNvPr id="327" name=""/>
            <p:cNvSpPr/>
            <p:nvPr/>
          </p:nvSpPr>
          <p:spPr>
            <a:xfrm flipV="1">
              <a:off x="5192280" y="2411640"/>
              <a:ext cx="2642040" cy="529920"/>
            </a:xfrm>
            <a:prstGeom prst="line">
              <a:avLst/>
            </a:prstGeom>
            <a:ln w="284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908680" y="2468520"/>
              <a:ext cx="1925640" cy="122148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75200" y="1662120"/>
              <a:ext cx="2026440" cy="25308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886000" y="1938600"/>
              <a:ext cx="2015640" cy="46044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92280" y="1143360"/>
              <a:ext cx="2597400" cy="66852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19840" y="382680"/>
              <a:ext cx="1859040" cy="138276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108000" bIns="10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458120" y="115920"/>
            <a:ext cx="1603440" cy="10540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7677000" y="146160"/>
            <a:ext cx="1011240" cy="10634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4765680" y="3208320"/>
            <a:ext cx="4378320" cy="360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2F492-616C-42F1-8660-D0B5426E84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68200" y="162000"/>
            <a:ext cx="9468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Goal of the project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Develop: methods for high data rate e-VLBI using distributed correlation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High data rate eVLBI data acquisition and transport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9933"/>
                </a:solidFill>
                <a:latin typeface="Lucida Sans Unicode"/>
              </a:rPr>
              <a:t>Develop a scalable prototype for broadband data acquisition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3" marL="1333440" indent="-95040">
              <a:spcBef>
                <a:spcPts val="400"/>
              </a:spcBef>
              <a:buClr>
                <a:srgbClr val="ff33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Sans Unicode"/>
              </a:rPr>
              <a:t>Prototype acquisition system</a:t>
            </a:r>
            <a:endParaRPr b="1" lang="en-US" sz="1600" spc="-1" strike="noStrike">
              <a:solidFill>
                <a:srgbClr val="80566c"/>
              </a:solidFill>
              <a:latin typeface="Lucida Sans Unicode"/>
            </a:endParaRPr>
          </a:p>
          <a:p>
            <a:pPr lvl="2" marL="1047600" indent="-19044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9933"/>
                </a:solidFill>
                <a:latin typeface="Lucida Sans Unicode"/>
              </a:rPr>
              <a:t>Establish a transportation protocol for broadband e-VLBI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3" marL="1333440" indent="-95040">
              <a:spcBef>
                <a:spcPts val="400"/>
              </a:spcBef>
              <a:buClr>
                <a:srgbClr val="ff33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Sans Unicode"/>
              </a:rPr>
              <a:t>Build into prototype, establish interface normal system</a:t>
            </a:r>
            <a:endParaRPr b="1" lang="en-US" sz="1600" spc="-1" strike="noStrike">
              <a:solidFill>
                <a:srgbClr val="80566c"/>
              </a:solidFill>
              <a:latin typeface="Lucida Sans Unicode"/>
            </a:endParaRPr>
          </a:p>
          <a:p>
            <a:pPr lvl="2" marL="1047600" indent="-19044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9933"/>
                </a:solidFill>
                <a:latin typeface="Lucida Sans Unicode"/>
              </a:rPr>
              <a:t>Interface e-VLBI public networks with LOFAR and e-MERLIN dedicated networks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3" marL="1333440" indent="-95040">
              <a:spcBef>
                <a:spcPts val="400"/>
              </a:spcBef>
              <a:buClr>
                <a:srgbClr val="ff33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Sans Unicode"/>
              </a:rPr>
              <a:t>Correlate wide band Onsala data on eMERLIN</a:t>
            </a:r>
            <a:endParaRPr b="1" lang="en-US" sz="1600" spc="-1" strike="noStrike">
              <a:solidFill>
                <a:srgbClr val="80566c"/>
              </a:solidFill>
              <a:latin typeface="Lucida Sans Unicode"/>
            </a:endParaRPr>
          </a:p>
          <a:p>
            <a:pPr lvl="3" marL="1333440" indent="-95040">
              <a:spcBef>
                <a:spcPts val="400"/>
              </a:spcBef>
              <a:buClr>
                <a:srgbClr val="ff33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Sans Unicode"/>
              </a:rPr>
              <a:t>Demonstrate LOFAR connectivity</a:t>
            </a:r>
            <a:endParaRPr b="1" lang="en-US" sz="1600" spc="-1" strike="noStrike">
              <a:solidFill>
                <a:srgbClr val="80566c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Distributed correlation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9933"/>
                </a:solidFill>
                <a:latin typeface="Lucida Sans Unicode"/>
              </a:rPr>
              <a:t>Setup data distribution over Grid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3" marL="1333440" indent="-95040">
              <a:spcBef>
                <a:spcPts val="400"/>
              </a:spcBef>
              <a:buClr>
                <a:srgbClr val="ff33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Sans Unicode"/>
              </a:rPr>
              <a:t>Workflow management tool</a:t>
            </a:r>
            <a:endParaRPr b="1" lang="en-US" sz="1600" spc="-1" strike="noStrike">
              <a:solidFill>
                <a:srgbClr val="80566c"/>
              </a:solidFill>
              <a:latin typeface="Lucida Sans Unicode"/>
            </a:endParaRPr>
          </a:p>
          <a:p>
            <a:pPr lvl="2" marL="1047600" indent="-19044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9933"/>
                </a:solidFill>
                <a:latin typeface="Lucida Sans Unicode"/>
              </a:rPr>
              <a:t>Develop a software correlator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3" marL="1333440" indent="-95040">
              <a:spcBef>
                <a:spcPts val="400"/>
              </a:spcBef>
              <a:buClr>
                <a:srgbClr val="ff33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Lucida Sans Unicode"/>
              </a:rPr>
              <a:t>Run a modest distributed eVLBI experiment</a:t>
            </a:r>
            <a:endParaRPr b="1" lang="en-US" sz="1600" spc="-1" strike="noStrike">
              <a:solidFill>
                <a:srgbClr val="80566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B57A2-FEFD-4355-9CC6-AEDE19E488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What correlators do…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5240" y="770040"/>
            <a:ext cx="85914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ynthesis imaging simulates a very large telescope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by measuring Fourier components of sky brightness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on each baseline pair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nsitivity is proportional to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√bandwidth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  <a:ea typeface="Lucida Sans Unicode"/>
              </a:rPr>
              <a:t>optimal use of available recording bandwidth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  <a:ea typeface="Lucida Sans Unicode"/>
              </a:rPr>
              <a:t>by sampling 2 bits (4 level) at Nyquist rate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rrelator calculates ½N(N-1) baseline outputs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  <a:ea typeface="Lucida Sans Unicode"/>
              </a:rPr>
              <a:t>after compensating for the geometry of array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  <a:ea typeface="Lucida Sans Unicode"/>
              </a:rPr>
              <a:t>Integrates output signal to something relatively slow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  <a:ea typeface="Lucida Sans Unicode"/>
              </a:rPr>
              <a:t>and samples with delay/frequency resolution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149" t="31420" r="0" b="0"/>
          <a:stretch/>
        </p:blipFill>
        <p:spPr>
          <a:xfrm>
            <a:off x="798480" y="4432320"/>
            <a:ext cx="6924600" cy="242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DF802-C042-4F14-9D7C-1087B30254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Current eVLBI practice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343" name=""/>
          <p:cNvSpPr/>
          <p:nvPr/>
        </p:nvSpPr>
        <p:spPr>
          <a:xfrm>
            <a:off x="878040" y="1066680"/>
            <a:ext cx="19044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068480" y="1685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92160" y="16095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11280" y="1762200"/>
            <a:ext cx="3808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68480" y="1762200"/>
            <a:ext cx="7596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4440" y="176220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5400" y="2371680"/>
            <a:ext cx="4190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44440" y="23713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5400" y="2371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3560" y="1685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9880" y="1762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1720" y="1724040"/>
            <a:ext cx="190440" cy="190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15840" y="1685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068480" y="1761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18780600">
            <a:off x="1008000" y="580680"/>
            <a:ext cx="73008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578800">
            <a:off x="801360" y="863280"/>
            <a:ext cx="1295280" cy="6080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563840" y="863280"/>
            <a:ext cx="152280" cy="12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992160" y="984240"/>
            <a:ext cx="57168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1563840" y="983880"/>
            <a:ext cx="304560" cy="62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58920" y="723960"/>
            <a:ext cx="30492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580000" y="4148280"/>
            <a:ext cx="698400" cy="1703160"/>
            <a:chOff x="5580000" y="4148280"/>
            <a:chExt cx="698400" cy="1703160"/>
          </a:xfrm>
        </p:grpSpPr>
        <p:sp>
          <p:nvSpPr>
            <p:cNvPr id="364" name=""/>
            <p:cNvSpPr/>
            <p:nvPr/>
          </p:nvSpPr>
          <p:spPr>
            <a:xfrm>
              <a:off x="5580000" y="4148280"/>
              <a:ext cx="698400" cy="170316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32560" y="4231800"/>
              <a:ext cx="574200" cy="988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45240" y="4406400"/>
              <a:ext cx="339840" cy="581040"/>
            </a:xfrm>
            <a:custGeom>
              <a:avLst/>
              <a:gdLst/>
              <a:ahLst/>
              <a:rect l="l" t="t" r="r" b="b"/>
              <a:pathLst>
                <a:path w="444" h="729">
                  <a:moveTo>
                    <a:pt x="342" y="729"/>
                  </a:moveTo>
                  <a:lnTo>
                    <a:pt x="432" y="417"/>
                  </a:lnTo>
                  <a:lnTo>
                    <a:pt x="372" y="390"/>
                  </a:lnTo>
                  <a:lnTo>
                    <a:pt x="18" y="420"/>
                  </a:lnTo>
                  <a:lnTo>
                    <a:pt x="0" y="375"/>
                  </a:lnTo>
                  <a:lnTo>
                    <a:pt x="24" y="321"/>
                  </a:lnTo>
                  <a:lnTo>
                    <a:pt x="369" y="351"/>
                  </a:lnTo>
                  <a:lnTo>
                    <a:pt x="444" y="312"/>
                  </a:lnTo>
                  <a:lnTo>
                    <a:pt x="39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04280" y="4318920"/>
              <a:ext cx="243360" cy="25812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60080" y="4887360"/>
              <a:ext cx="146880" cy="14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53520" y="4262760"/>
              <a:ext cx="344520" cy="372960"/>
            </a:xfrm>
            <a:prstGeom prst="ellipse">
              <a:avLst/>
            </a:prstGeom>
            <a:solidFill>
              <a:srgbClr val="dddddd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62160" y="4786200"/>
              <a:ext cx="344520" cy="372960"/>
            </a:xfrm>
            <a:prstGeom prst="ellipse">
              <a:avLst/>
            </a:prstGeom>
            <a:solidFill>
              <a:srgbClr val="dddddd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39360" y="4708080"/>
              <a:ext cx="58680" cy="23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046920" y="4671720"/>
              <a:ext cx="47160" cy="2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76120" y="5363280"/>
              <a:ext cx="505440" cy="296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48480" y="5452560"/>
              <a:ext cx="20520" cy="2952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06000" y="549504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47760" y="540720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09240" y="553392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5320" y="556668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10680" y="561384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47760" y="537372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94480" y="537228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79880" y="540324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25680" y="540000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26400" y="561852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1760" y="540108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139080" y="5397120"/>
              <a:ext cx="20520" cy="29160"/>
            </a:xfrm>
            <a:prstGeom prst="irregularSeal1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38360" y="5439240"/>
              <a:ext cx="20520" cy="29520"/>
            </a:xfrm>
            <a:prstGeom prst="irregularSeal1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6326280" y="4148280"/>
            <a:ext cx="730080" cy="1684080"/>
          </a:xfrm>
          <a:prstGeom prst="rect">
            <a:avLst/>
          </a:prstGeom>
          <a:solidFill>
            <a:srgbClr val="5f5f5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380280" y="4243320"/>
            <a:ext cx="50760" cy="978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58040" y="4245120"/>
            <a:ext cx="50760" cy="977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41920" y="4248000"/>
            <a:ext cx="51120" cy="97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622920" y="4249800"/>
            <a:ext cx="50760" cy="977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19760" y="4246560"/>
            <a:ext cx="50760" cy="97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04000" y="4251240"/>
            <a:ext cx="50760" cy="978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88240" y="4251240"/>
            <a:ext cx="50760" cy="978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967440" y="4251240"/>
            <a:ext cx="50760" cy="9781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397560" y="4272120"/>
            <a:ext cx="22320" cy="2988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81840" y="4286160"/>
            <a:ext cx="22320" cy="2880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53080" y="4280040"/>
            <a:ext cx="22320" cy="2988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16600" y="4278240"/>
            <a:ext cx="22320" cy="2880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24560" y="5384880"/>
            <a:ext cx="208080" cy="23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51800" y="5386320"/>
            <a:ext cx="207720" cy="23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99160" y="5586480"/>
            <a:ext cx="22320" cy="2844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932520" y="5589720"/>
            <a:ext cx="20880" cy="2844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74000" y="4148280"/>
            <a:ext cx="698400" cy="1703160"/>
          </a:xfrm>
          <a:prstGeom prst="rect">
            <a:avLst/>
          </a:prstGeom>
          <a:solidFill>
            <a:srgbClr val="5f5f5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26200" y="4232160"/>
            <a:ext cx="574920" cy="98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4406760"/>
            <a:ext cx="339840" cy="581040"/>
          </a:xfrm>
          <a:custGeom>
            <a:avLst/>
            <a:gdLst/>
            <a:ahLst/>
            <a:rect l="l" t="t" r="r" b="b"/>
            <a:pathLst>
              <a:path w="444" h="729">
                <a:moveTo>
                  <a:pt x="342" y="729"/>
                </a:moveTo>
                <a:lnTo>
                  <a:pt x="432" y="417"/>
                </a:lnTo>
                <a:lnTo>
                  <a:pt x="372" y="390"/>
                </a:lnTo>
                <a:lnTo>
                  <a:pt x="18" y="420"/>
                </a:lnTo>
                <a:lnTo>
                  <a:pt x="0" y="375"/>
                </a:lnTo>
                <a:lnTo>
                  <a:pt x="24" y="321"/>
                </a:lnTo>
                <a:lnTo>
                  <a:pt x="369" y="351"/>
                </a:lnTo>
                <a:lnTo>
                  <a:pt x="444" y="312"/>
                </a:lnTo>
                <a:lnTo>
                  <a:pt x="3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97560" y="4319640"/>
            <a:ext cx="244800" cy="2570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354800" y="4888080"/>
            <a:ext cx="14616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48600" y="4262400"/>
            <a:ext cx="344520" cy="372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256520" y="4786200"/>
            <a:ext cx="344520" cy="373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532640" y="4708440"/>
            <a:ext cx="60480" cy="2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7540560" y="4671720"/>
            <a:ext cx="47520" cy="27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70840" y="5364000"/>
            <a:ext cx="504720" cy="295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42120" y="5452920"/>
            <a:ext cx="20520" cy="2880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201080" y="5494320"/>
            <a:ext cx="20520" cy="302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42120" y="5407200"/>
            <a:ext cx="20520" cy="2988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203960" y="5533920"/>
            <a:ext cx="20880" cy="302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248600" y="5567400"/>
            <a:ext cx="22320" cy="284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05760" y="5613480"/>
            <a:ext cx="20520" cy="302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242120" y="5373720"/>
            <a:ext cx="20520" cy="302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88120" y="5372280"/>
            <a:ext cx="20880" cy="2988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73880" y="5403960"/>
            <a:ext cx="20520" cy="284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20040" y="5400720"/>
            <a:ext cx="20520" cy="284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20040" y="5618160"/>
            <a:ext cx="20520" cy="302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75400" y="5400720"/>
            <a:ext cx="20880" cy="302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32720" y="5397480"/>
            <a:ext cx="20520" cy="2844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32720" y="5438880"/>
            <a:ext cx="20520" cy="2988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56000" y="1017720"/>
            <a:ext cx="2232000" cy="1079280"/>
          </a:xfrm>
          <a:prstGeom prst="ellipse">
            <a:avLst/>
          </a:prstGeom>
          <a:solidFill>
            <a:srgbClr val="e7ee8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observing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in VE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68360" y="7461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19640" y="2637000"/>
            <a:ext cx="2304720" cy="122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48360" y="836640"/>
            <a:ext cx="1800000" cy="863640"/>
          </a:xfrm>
          <a:prstGeom prst="ellipse">
            <a:avLst/>
          </a:prstGeom>
          <a:solidFill>
            <a:srgbClr val="e7ee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user corre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36000" y="1197000"/>
            <a:ext cx="1692000" cy="936720"/>
          </a:xfrm>
          <a:prstGeom prst="ellipse">
            <a:avLst/>
          </a:prstGeom>
          <a:solidFill>
            <a:srgbClr val="e7ee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earth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72360" y="3284640"/>
            <a:ext cx="223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476360" y="4581360"/>
            <a:ext cx="1150920" cy="9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07000" y="3284640"/>
            <a:ext cx="2192400" cy="863640"/>
          </a:xfrm>
          <a:prstGeom prst="rect">
            <a:avLst/>
          </a:prstGeom>
          <a:solidFill>
            <a:srgbClr val="5597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orrelato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includin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2494080"/>
            <a:ext cx="1657080" cy="1079280"/>
          </a:xfrm>
          <a:prstGeom prst="rect">
            <a:avLst/>
          </a:prstGeom>
          <a:solidFill>
            <a:srgbClr val="5597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ield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ontrols anten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nd acqui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4440" y="2816280"/>
            <a:ext cx="934920" cy="93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BBC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sampl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3800" y="3860640"/>
            <a:ext cx="935280" cy="935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k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orma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8360" y="4916520"/>
            <a:ext cx="935280" cy="93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k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lay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9640" y="4896000"/>
            <a:ext cx="935280" cy="93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k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rec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68360" y="4481640"/>
            <a:ext cx="1822680" cy="1711080"/>
          </a:xfrm>
          <a:prstGeom prst="diamond">
            <a:avLst/>
          </a:prstGeom>
          <a:solidFill>
            <a:srgbClr val="54da7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k4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in Mk5prop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over TCP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419640" y="2097000"/>
            <a:ext cx="179280" cy="39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11520" y="1914480"/>
            <a:ext cx="1766880" cy="137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38720" y="1700280"/>
            <a:ext cx="505080" cy="160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967080" y="2133720"/>
            <a:ext cx="831960" cy="117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1476360" y="1990440"/>
            <a:ext cx="1077840" cy="850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476000" y="306864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459080" y="3213000"/>
            <a:ext cx="1095120" cy="10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487160" y="3367080"/>
            <a:ext cx="107964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87520" y="5337000"/>
            <a:ext cx="7808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091040" y="5337000"/>
            <a:ext cx="5173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82000" y="3751200"/>
            <a:ext cx="846000" cy="1835280"/>
          </a:xfrm>
          <a:prstGeom prst="ellipse">
            <a:avLst/>
          </a:prstGeom>
          <a:solidFill>
            <a:srgbClr val="e7ee8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99400" y="4732200"/>
            <a:ext cx="282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92160" y="2676600"/>
            <a:ext cx="0" cy="139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81000" y="3720960"/>
            <a:ext cx="0" cy="139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81000" y="4795920"/>
            <a:ext cx="0" cy="139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F950-BE9C-41CC-A6C1-481B0D87D18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54760" y="3852720"/>
            <a:ext cx="2447640" cy="2440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AB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he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FABRIC components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9040" y="1017720"/>
            <a:ext cx="2232000" cy="1079280"/>
          </a:xfrm>
          <a:prstGeom prst="ellipse">
            <a:avLst/>
          </a:prstGeom>
          <a:solidFill>
            <a:srgbClr val="e7ee8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observing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in VE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68360" y="7461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19640" y="2637000"/>
            <a:ext cx="2304720" cy="122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02400" y="693720"/>
            <a:ext cx="1800000" cy="863640"/>
          </a:xfrm>
          <a:prstGeom prst="ellipse">
            <a:avLst/>
          </a:prstGeom>
          <a:solidFill>
            <a:srgbClr val="e7ee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user corre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48120" y="693720"/>
            <a:ext cx="1692360" cy="936720"/>
          </a:xfrm>
          <a:prstGeom prst="ellipse">
            <a:avLst/>
          </a:prstGeom>
          <a:solidFill>
            <a:srgbClr val="e7ee8a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resourc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3284640"/>
            <a:ext cx="223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476360" y="4581360"/>
            <a:ext cx="1150920" cy="9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18040" y="2625840"/>
            <a:ext cx="2192400" cy="863640"/>
          </a:xfrm>
          <a:prstGeom prst="rect">
            <a:avLst/>
          </a:prstGeom>
          <a:solidFill>
            <a:srgbClr val="5597b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orrelato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includin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59040" y="2494080"/>
            <a:ext cx="1657440" cy="852480"/>
          </a:xfrm>
          <a:prstGeom prst="rect">
            <a:avLst/>
          </a:prstGeom>
          <a:solidFill>
            <a:srgbClr val="5597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ield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ontrols anten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nd acqui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4440" y="2816280"/>
            <a:ext cx="934920" cy="1230120"/>
          </a:xfrm>
          <a:prstGeom prst="rect">
            <a:avLst/>
          </a:prstGeom>
          <a:solidFill>
            <a:srgbClr val="808080"/>
          </a:solidFill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B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V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9640" y="4670280"/>
            <a:ext cx="935280" cy="1160640"/>
          </a:xfrm>
          <a:prstGeom prst="rect">
            <a:avLst/>
          </a:prstGeom>
          <a:solidFill>
            <a:srgbClr val="80808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68360" y="4730760"/>
            <a:ext cx="1822680" cy="1711440"/>
          </a:xfrm>
          <a:prstGeom prst="diamond">
            <a:avLst/>
          </a:prstGeom>
          <a:solidFill>
            <a:srgbClr val="54da77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VSIe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on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05120" y="2097000"/>
            <a:ext cx="0" cy="39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99000" y="1990800"/>
            <a:ext cx="1095120" cy="6350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548400" y="1557360"/>
            <a:ext cx="184320" cy="10684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7014960" y="2133720"/>
            <a:ext cx="392040" cy="49212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1476000" y="1990800"/>
            <a:ext cx="38268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76000" y="3068640"/>
            <a:ext cx="382680" cy="0"/>
          </a:xfrm>
          <a:prstGeom prst="line">
            <a:avLst/>
          </a:prstGeom>
          <a:ln w="1260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487160" y="3346560"/>
            <a:ext cx="609480" cy="17492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87520" y="5337000"/>
            <a:ext cx="780840" cy="24948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91040" y="5586480"/>
            <a:ext cx="963720" cy="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082000" y="3751200"/>
            <a:ext cx="846000" cy="1835280"/>
          </a:xfrm>
          <a:prstGeom prst="ellipse">
            <a:avLst/>
          </a:prstGeom>
          <a:solidFill>
            <a:srgbClr val="e7ee8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407360" y="4730760"/>
            <a:ext cx="674640" cy="14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92160" y="2390760"/>
            <a:ext cx="0" cy="4255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81000" y="4046400"/>
            <a:ext cx="0" cy="623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379440" y="836640"/>
            <a:ext cx="1108080" cy="155412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5332320" y="3852720"/>
            <a:ext cx="392040" cy="7606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37520" y="1454040"/>
            <a:ext cx="1692360" cy="936720"/>
          </a:xfrm>
          <a:prstGeom prst="ellipse">
            <a:avLst/>
          </a:prstGeom>
          <a:solidFill>
            <a:srgbClr val="e7ee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earth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5"/>
          <a:stretch/>
        </p:blipFill>
        <p:spPr>
          <a:xfrm>
            <a:off x="5054760" y="5103720"/>
            <a:ext cx="392040" cy="7606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6"/>
          <a:stretch/>
        </p:blipFill>
        <p:spPr>
          <a:xfrm>
            <a:off x="7015320" y="5070600"/>
            <a:ext cx="392040" cy="7603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7"/>
          <a:stretch/>
        </p:blipFill>
        <p:spPr>
          <a:xfrm>
            <a:off x="6156360" y="5586480"/>
            <a:ext cx="392040" cy="7603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8"/>
          <a:stretch/>
        </p:blipFill>
        <p:spPr>
          <a:xfrm>
            <a:off x="6548400" y="3821040"/>
            <a:ext cx="392040" cy="76032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05120" y="3751200"/>
            <a:ext cx="1822320" cy="1711440"/>
          </a:xfrm>
          <a:prstGeom prst="diamond">
            <a:avLst/>
          </a:prstGeom>
          <a:solidFill>
            <a:srgbClr val="54da77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487520" y="4613400"/>
            <a:ext cx="1317600" cy="72360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627440" y="4292280"/>
            <a:ext cx="704880" cy="32076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2480" y="5025960"/>
            <a:ext cx="8254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C-EV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99000" y="2625840"/>
            <a:ext cx="2192040" cy="863640"/>
          </a:xfrm>
          <a:prstGeom prst="rect">
            <a:avLst/>
          </a:prstGeom>
          <a:solidFill>
            <a:srgbClr val="5597b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resource 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nd ro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54760" y="1630440"/>
            <a:ext cx="0" cy="9954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48120" y="1763640"/>
            <a:ext cx="2600280" cy="862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487160" y="3489480"/>
            <a:ext cx="2211480" cy="16142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54760" y="3489480"/>
            <a:ext cx="277560" cy="3711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6732360" y="3489480"/>
            <a:ext cx="282600" cy="3315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49C90-8042-4B64-B10C-5398ED71AF5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672160" y="1143000"/>
            <a:ext cx="3259080" cy="434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EVN MkIV data processor at JIVE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57481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mplements this in custom silicon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16 stations input from tapes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now hard-disks and fibres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nput data is 1 Gb/s max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1 or 2 bit sampled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up to 16 sub-bands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format includes time codes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uper computer” 1024 chips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256 complex correlations each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at 32 MHz clock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round 100 T-operations/sec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2 bit only!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Depends a bit how you do it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</p:txBody>
      </p:sp>
      <p:sp>
        <p:nvSpPr>
          <p:cNvPr id="192" name=""/>
          <p:cNvSpPr/>
          <p:nvPr/>
        </p:nvSpPr>
        <p:spPr>
          <a:xfrm>
            <a:off x="738360" y="6080040"/>
            <a:ext cx="79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566c"/>
                </a:solidFill>
                <a:latin typeface="Lucida Sans Unicode"/>
              </a:rPr>
              <a:t>Should next correlator also use special hardw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755E3-AAE0-41DA-AA16-1B95C21898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Next generation…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2195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an be implemented on standard computing?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36400" indent="-176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Time critical, keep up with input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6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example: LOFAR on BlueGene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536400" indent="-176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Higher precision and new applications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6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Better sensitivity, interference mitigation, spacecraft navigation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an CPU cycles be found on the Grid?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36400" indent="-176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From 16 antenna @ 1Gb/s (eVLBI)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6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And growing…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536400" indent="-176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To 1000s at 100 Gb/s (SKA)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536400" indent="-176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Pilot projects FABRIC &amp; SCARIe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2080" indent="-176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Connectivity, workflow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892080" indent="-176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Real-time resource allocation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83160" y="135000"/>
          <a:ext cx="456084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3160" y="135000"/>
                    <a:ext cx="456084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273640" y="152280"/>
            <a:ext cx="1700280" cy="127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778360" y="4286160"/>
            <a:ext cx="3365640" cy="24354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995640" y="1895400"/>
            <a:ext cx="4324320" cy="2959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891040" y="1849320"/>
            <a:ext cx="29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c2e63"/>
                </a:solidFill>
                <a:latin typeface="Lucida Sans Unicode"/>
              </a:rPr>
              <a:t>LOFAR central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3480" y="3089160"/>
            <a:ext cx="29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c2e63"/>
                </a:solidFill>
                <a:latin typeface="Lucida Sans Unicode"/>
              </a:rPr>
              <a:t>FABRIC eVL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96000" y="397656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c2e63"/>
                </a:solidFill>
                <a:latin typeface="Lucida Sans Unicode"/>
              </a:rPr>
              <a:t>SKA inner core (5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2CE4A-AA91-432A-9DEE-9B84A70A7A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Tflops, Pflops…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3189240" cy="26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2 bit operations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floating point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2520" indent="-1843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Results in enormous computing tasks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452520" indent="-1843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Very few operations / bit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452520" indent="-1843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Some could be associated with telescope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33360" y="3438360"/>
          <a:ext cx="8810640" cy="24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3438360"/>
                    <a:ext cx="881064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8626320" y="6172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52680" y="627840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Rough estimate based on XF corre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286160" y="0"/>
            <a:ext cx="4627800" cy="3487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8840" y="59594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SKA not even in her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45D9-F439-4314-9FE6-7263CC1CB9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SCARI</a:t>
            </a:r>
            <a:r>
              <a:rPr b="0" i="1" lang="en-US" sz="3200" spc="-1" strike="noStrike">
                <a:solidFill>
                  <a:srgbClr val="005a58"/>
                </a:solidFill>
                <a:latin typeface="Lucida Sans Unicode"/>
              </a:rPr>
              <a:t>e</a:t>
            </a: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 FABRIC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3640" y="806400"/>
            <a:ext cx="859140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EC funded project EXPReS (03/2006)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36400" indent="-177480"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To turn eVLBI into an operational system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536400" indent="-177480"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Plus: Joint Research Activity: FABRIC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3880" indent="-177840"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Future Arrays of Broadband Radio-telescopes on Internet Computing 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3" marL="1346040" indent="-95040">
              <a:spcBef>
                <a:spcPts val="349"/>
              </a:spcBef>
              <a:buClr>
                <a:srgbClr val="80566c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566c"/>
                </a:solidFill>
                <a:latin typeface="Lucida Sans Unicode"/>
              </a:rPr>
              <a:t>One work-package on 4Gb/s data acquisition and transport</a:t>
            </a:r>
            <a:endParaRPr b="1" lang="en-US" sz="1400" spc="-1" strike="noStrike">
              <a:solidFill>
                <a:srgbClr val="80566c"/>
              </a:solidFill>
              <a:latin typeface="Lucida Sans Unicode"/>
            </a:endParaRPr>
          </a:p>
          <a:p>
            <a:pPr lvl="3" marL="13460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566c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80566c"/>
                </a:solidFill>
                <a:latin typeface="Lucida Sans Unicode"/>
              </a:rPr>
              <a:t>(Jodrell Bank, Metsahovi, Onsala, Bonn, ASTRON)</a:t>
            </a:r>
            <a:endParaRPr b="1" lang="en-US" sz="1400" spc="-1" strike="noStrike">
              <a:solidFill>
                <a:srgbClr val="80566c"/>
              </a:solidFill>
              <a:latin typeface="Lucida Sans Unicode"/>
            </a:endParaRPr>
          </a:p>
          <a:p>
            <a:pPr lvl="3" marL="1346040" indent="-95040">
              <a:spcBef>
                <a:spcPts val="349"/>
              </a:spcBef>
              <a:buClr>
                <a:srgbClr val="80566c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566c"/>
                </a:solidFill>
                <a:latin typeface="Lucida Sans Unicode"/>
              </a:rPr>
              <a:t>One work-package on distributed correlation (JIVE, PSNC Poznan)</a:t>
            </a:r>
            <a:endParaRPr b="1" lang="en-US" sz="1400" spc="-1" strike="noStrike">
              <a:solidFill>
                <a:srgbClr val="80566c"/>
              </a:solidFill>
              <a:latin typeface="Lucida Sans Unicode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Dutch NWO funded project SCARI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(10/2006)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93880" indent="-177840"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Software Correlator Architecture Research and Implementation for eVLBI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536400" indent="-177480"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Collaboration with SARA and UvA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536400" indent="-177480"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Use Dutch Grid with configurable high connectivity: StarPlane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536400" indent="-177480"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Software correlation with data originating from JIVE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omplementary projects with matching funding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36400" indent="-177480"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International and national expertise from other partners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536400" indent="-177480"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Total of 9 man year at JIVE, plus some matching from staff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893880" indent="-177840"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plus similar amount at partners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marL="179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331040" y="249120"/>
            <a:ext cx="1584360" cy="7416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250EF-12C9-49E2-87A8-5C6E34E554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Aim of the project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Research the possibility of distributed correlation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Using the Grid for getting the CPU cycles 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Can it be employed for the next generation VLBI correlation?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Exercise the advantages of software correlation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Using floating point accuracy and special filtering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Explore (push) the boundaries of the Grid paradigm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“</a:t>
            </a: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Real time” applications, data transfer limitations 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o lead to a modest size demo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Sans Unicode"/>
              </a:rPr>
              <a:t>With some possible real applications:</a:t>
            </a:r>
            <a:endParaRPr b="1" lang="en-US" sz="18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Monitoring EVN network performance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Continuous available eVLBI network with few telescopes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3" marL="1333440" indent="-95040">
              <a:lnSpc>
                <a:spcPct val="90000"/>
              </a:lnSpc>
              <a:spcBef>
                <a:spcPts val="349"/>
              </a:spcBef>
              <a:buClr>
                <a:srgbClr val="80566c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566c"/>
                </a:solidFill>
                <a:latin typeface="Lucida Sans Unicode"/>
              </a:rPr>
              <a:t>Monitoring transient sources</a:t>
            </a:r>
            <a:endParaRPr b="1" lang="en-US" sz="1400" spc="-1" strike="noStrike">
              <a:solidFill>
                <a:srgbClr val="80566c"/>
              </a:solidFill>
              <a:latin typeface="Lucida Sans Unicode"/>
            </a:endParaRPr>
          </a:p>
          <a:p>
            <a:pPr lvl="3" marL="1333440" indent="-95040">
              <a:lnSpc>
                <a:spcPct val="90000"/>
              </a:lnSpc>
              <a:spcBef>
                <a:spcPts val="349"/>
              </a:spcBef>
              <a:buClr>
                <a:srgbClr val="80566c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566c"/>
                </a:solidFill>
                <a:latin typeface="Lucida Sans Unicode"/>
              </a:rPr>
              <a:t>Astrometry, possibly of spectral line sources </a:t>
            </a:r>
            <a:endParaRPr b="1" lang="en-US" sz="1400" spc="-1" strike="noStrike">
              <a:solidFill>
                <a:srgbClr val="80566c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Special correlator modes: spacecraft navigation, pulsar gating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Lucida Sans Unicode"/>
              </a:rPr>
              <a:t>Test bed for broadband eVLBI research</a:t>
            </a: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9933"/>
              </a:solidFill>
              <a:latin typeface="Lucida Sans Unicode"/>
            </a:endParaRPr>
          </a:p>
          <a:p>
            <a:pPr marL="2858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Unicode"/>
              </a:rPr>
              <a:t>Something to try on the roadmap for the next generation correlator, </a:t>
            </a:r>
            <a:endParaRPr b="1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Unicode"/>
              </a:rPr>
              <a:t>even if you do not believe it is the solution…</a:t>
            </a:r>
            <a:endParaRPr b="1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F1EF-0BC0-4915-9EB9-0D4A05CD8C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000" y="0"/>
            <a:ext cx="80614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58"/>
                </a:solidFill>
                <a:latin typeface="Lucida Sans Unicode"/>
              </a:rPr>
              <a:t>Previous experience on Software correlation</a:t>
            </a:r>
            <a:endParaRPr b="0" lang="en-US" sz="28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8463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Builds on previous experience at JIVE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regular and automated network performance tests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Using Japanese software correlator from NICT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666720" indent="-190440"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Huygens extreme narrow band correlation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Home grown superFX with  sub-Hz resolution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587920" y="744480"/>
            <a:ext cx="3476880" cy="3764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4227480"/>
            <a:ext cx="162864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747800" y="4344840"/>
            <a:ext cx="3619440" cy="2392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091120" y="4570560"/>
            <a:ext cx="3973680" cy="188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3234-50BD-45C1-B8AC-20B3C457D3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58"/>
                </a:solidFill>
                <a:latin typeface="Lucida Sans Unicode"/>
              </a:rPr>
              <a:t>Work packages</a:t>
            </a:r>
            <a:endParaRPr b="0" lang="en-US" sz="3200" spc="-1" strike="noStrike">
              <a:solidFill>
                <a:srgbClr val="005a58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Grid resource allocation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Grid workflow management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Tool to allocate correlator resources and schedule correlation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Data flow from telescopes to appropriate correlator resources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Expertise from the Poznan group in Virtual Laboratories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Will this application fit on Grid?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As it is very data intensive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And time-critical if not real-time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ftware correlation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correlator algorithm design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High precision correlation on standard computing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Scalable to cluster computers 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Portable for grid computers and interfaced to standard middleware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Sans Unicode"/>
              </a:rPr>
              <a:t>Interactive visualization and output definition</a:t>
            </a:r>
            <a:endParaRPr b="1" lang="en-US" sz="2000" spc="-1" strike="noStrike">
              <a:solidFill>
                <a:srgbClr val="336699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Collect &amp; merge data in EVN archive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Lucida Sans Unicode"/>
              </a:rPr>
              <a:t>Standard format and proprietary rights</a:t>
            </a:r>
            <a:endParaRPr b="1" lang="en-US" sz="1800" spc="-1" strike="noStrike">
              <a:solidFill>
                <a:srgbClr val="3399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02/11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C556-4FFA-40D6-8F32-490BF59B0E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Nov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uib Jan van Langevelde</cp:lastModifiedBy>
  <dcterms:modified xsi:type="dcterms:W3CDTF">2006-11-02T10:01:07Z</dcterms:modified>
  <cp:revision>91</cp:revision>
  <dc:subject/>
  <dc:title>PowerPoint Presentation</dc:title>
</cp:coreProperties>
</file>